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E6D8-C792-49E1-A362-57EB559BE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BDFF3-29E4-4D4C-9FD6-FE06F8AA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AF90BD-0339-4865-B641-E82F3B9D2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D123E-8AB6-4950-978C-0AECDF550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6AFFC5-48B3-4BC4-BEC4-27C35C49C3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AA5DE-467D-4D51-81B5-930DF7ABA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92001-7AC9-431A-85D6-84CA61A70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2EB7E-0CB6-4A25-8AF1-9C5780C6D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8A312-7319-4CE5-93EE-9D5E4BB79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4353E5-28E9-4652-9E19-F6C198C815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53314B-8EBD-4731-944D-F7B308E1DE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669983-43BD-4926-BF74-814D571B0F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9B5EE-E395-43B1-B254-DC87870CE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5255BF-BF26-43EC-8214-50E164B9DD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697EC4-E8AC-42EC-BCD8-3A828ECAEB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96EE83-69DE-4705-BCBD-86957DB92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E9A173-37E0-44F5-9345-A05D7A0820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BDF9B7-6707-4461-8BDA-2498CA82CD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3E4A6F-E8DA-483B-8745-A5D3CDF3D2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E37A25-8E29-413A-B606-38189CC803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0129C1-21B8-4DA4-9616-2DA49318BD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3E5BAB-A8E2-4B20-9861-98D4446A01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CE42EF-0FE5-493C-B9B8-68A9D4FFC3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D4975-FEEF-4392-AB7D-FE73C9F6D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E88CBA-A932-4793-9CDF-3D14666CE0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643A6D-FB72-4E82-AFB9-A00A91E916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ACCA56-8ACF-4DEB-AA92-F76D326B08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FC30E7-220F-4DA0-854F-DAA496E97B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1466BB-1922-4F99-9A34-A5708441F4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03AFF7-0932-420F-9308-EF95E12885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E1F969-5552-482F-8135-0481E51694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4F96F7-83A9-4450-AEC7-9D0B5F52AE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B8DB8-B482-4F3F-92EC-4FFDBF8DCE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0FEA75-8923-48B4-A707-08297F44F5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E3716607-B4EE-4CD0-A37C-A5698E07E70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20B075-88E9-46F1-AB40-AE54945B7E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D9F04F-3C1B-48EC-B928-583C9FEBEE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80F142-B6E3-42FA-BC57-0D1299E093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9932BF-7BC0-4772-820A-E8F53BA892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C53717-E42C-4B60-BDF2-7312C35205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C04C9C-2C0A-492F-99C2-6B1930BD23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1D3D6C-C4D6-4794-8A6E-7181ED75F2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CEEB9D-1FAD-4550-B8FA-0DEF5BF84B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FEAA77-0B49-4D34-9922-1829C8A158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8E4EC9-A638-4312-81A9-B5DF1F2433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83C2AC7-1C08-4201-89E4-9CA7787120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2D0DBC-86CE-4CAA-A6D4-8C2BB96D38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DFA22E-18F0-4267-BCBC-2C938C4DD1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CEB8D7-50C6-4B04-89C0-63C666ED93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C74652-A4F5-4250-96DF-19A275E0AA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8797CF-9C14-4A0A-9CC3-0684EEE28D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77137F-203F-40C1-A5B6-3CB833EEB4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C28BC8-D57E-44C0-957E-4AA8C6CE25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862A9C-5C32-4EAB-B3E8-394A265925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4A7902-A4EA-48B1-986D-701FFA0CFB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88462B-C340-4911-9512-49BB972B11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B9CA515-701E-4369-A58D-16FBD302A3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9AEE1C-9727-4251-919A-4F7010F164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DD4EA-00A3-4326-AB17-6642EB58D6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11AE83-5041-4B7E-8D9C-3D104C4DE4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F216E5-AF78-443C-A9D0-72E698473E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5CFBD2-1036-4F59-80CF-B8A1D6C6A4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2B7264-4F3F-4CC3-815B-DFED0ED1533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C94B4C-EC2A-40AF-A476-8B6B4458E7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E301E0-FBD8-4515-A50E-C4479A8F63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2E0C75-0A65-494E-9075-EA393405BA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6C20E7-B32E-4909-B135-013BBA4E30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8521CD6-D3CF-4F1B-8C2E-2CF0B08E06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0CE0DB-BEB5-4810-B194-F4A44CE716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B5AA1E-8273-40AF-A7D2-1A307FA828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3A785C-A445-4D5C-92BC-4F14427C5A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DBAE02-07AA-409E-9EF4-A50CFADA80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7202B4-8303-46CE-84AC-B70539F65C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D4E6B1-7BC8-47C8-98A1-7CFEC20301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F5AEAF-3424-4081-A1B8-D1035601F7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FC97C7-8842-41F7-BB73-EAA8496AE6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28DEE4D-52A0-4052-AF81-DA98C2EF41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121519-751D-498F-8A3A-14D940B3704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C1C9E19-4482-4AE2-BA90-539A719A01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A950BB-8AC6-4FD7-8432-789AAA15B1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94ED02B-7BF9-462B-9F3F-96825F0B56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1D2C17-7BD7-4739-B03E-DE2C193AAE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94571E-D79E-4E1D-9C05-F31A29B239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AA9659-7805-44E5-A761-AF516115D5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442433-50ED-451B-9561-7978B176A2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4AD04F-17D7-4C9B-BEC9-0E30E64B02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94BF03-1CB2-4504-8B66-EB934EA282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F96DA8-A3BA-4EB0-89AB-E5BB29FC61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14A567-5012-4C41-905B-CE5EE1946CF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2A4DC7D-7648-4D1B-B36E-CDB27943FBC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FACA60-AAFD-44DA-A41F-D76AE1D719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112BBC8-2F80-40A8-ABCA-35BA579C4D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97EEE5-1E3E-4254-AA3C-5B656F7AC2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84105D-A37C-4CDF-BEB5-5D18EAB8EF6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BCB512-0CAE-41EF-98E6-13D8BCD2B7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DB240F-9ADF-4F1A-895F-F1598821B0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E5FF59-77BF-4DC7-9360-24FB3A73AA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D367C1-C76C-4F0D-A24D-D7C31F9A95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49DC5D-2578-40C5-A78C-827E2DA60D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22A6E5-EE52-4F1D-84FC-333280828C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930C19F-8F83-47A2-98F4-213DF43582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2B625E-D5AE-4540-A073-5F8A4C5431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076039-C9F7-4EEA-9B6D-EAEE151E419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4309C4-41FB-466A-8F23-ACBA6F22156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F57169F-A899-49BB-9160-EB1C3903C3F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DDF787-95A7-40DE-BAC2-B9385B5964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88F717-2CDB-4F33-9DEC-4C4934BD35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92EB91-D024-45FA-8997-549DA62A2E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7C8D31-A32A-427C-AA68-3D094997A1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6493FE-D80A-4780-9342-4FAC2546CD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87A3F7-3141-447B-99A0-2D8B5A1FED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7EA46-76BD-472D-A89E-5D1384D1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6CC064E-5E01-46C7-8C9B-073F7CF5DE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73F36E-12E4-429B-8608-BFF5455187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54C194-7F8F-47D2-82AD-9D666E5FD5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C0BF72-C3AF-4E14-AA48-0C5FF4ABF0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316E510-3BE4-4A62-BC36-1FF964D4112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5959FA-B775-4B1C-AAD8-B88B62E2D2D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A9DA8F5-EE09-421D-A886-55A353E4DC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DAC182F-E981-4C3A-B03D-B501714536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DB54235E-D1A5-49DF-8A4B-0B8E8E27654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F3F08F7-3AA4-462E-95AC-044281EA340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D0D51-365A-4620-9D18-1ED7B5BC0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EF008-7EA1-496E-9FC3-7D5963AD4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0B383-175F-4578-A6BD-6DA6AB6AF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BF4B5-F90A-4C44-ACA8-B684244C6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0A0C3-E6E6-4E7D-9999-261C8B2F9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0E2F-8FE6-407B-B0FC-BFD2B02BE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5E124-8FD8-4694-B8D5-5C3E475CD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C22B1-EF7C-42DE-8A8A-7063C9EFA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302B3-815B-4EAD-A6D1-EA32C13D6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75E68-47DB-4F70-8660-68F30CBB4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9719F-FEBB-4FBC-A123-FBA691207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BB929D-9B7D-4E75-8E4F-D718B0395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B843CF-D507-4A5F-8E19-69BD35B00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610FA5-5EF8-423D-9E4A-FBBC6B9A9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B78E8-BAA5-42CE-AC5D-351E11CD6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AA231-0F32-404C-94B5-38A5BFCB0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2DB8-9508-44F4-A752-26A0FB2C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4494E5-D526-41E4-B2C9-67B8387C7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CEC3B-402D-4809-B857-C1FC2AE76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B7166-8A06-4F5E-80FD-C7FD2B9F6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F5988-320F-4DD9-957D-9CE68E482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E97C9-9CA3-427D-ACD0-9B9C2006F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B84C6-E4F8-4B51-8416-A30768C21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8E104-D40B-4C87-BD22-48F040566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B7581D-F3D6-4946-8AA7-E621D9D79E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21D512-791E-44C2-BADA-8E10C0F93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02EDA-C231-49CC-989A-709AEDEE11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D926-30DE-4CA5-87DB-18B65DEA5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FA61F-6320-4810-9B6B-4C6FED705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44A5F-D006-4E55-AA54-D004B860A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C1C3D-1D8B-40B3-917F-395ED0DEA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04D05-6DD2-404C-992A-370FF77D1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F1607-0AF8-454E-9BD2-ADFA39163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61C6B-2E54-46DD-B37B-FE310CA9D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A3F26-A06E-4752-90C8-4DAE280C2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DCBC3-61CB-4EC4-A2AC-94DF96CA7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BE229-F704-4FAB-BB6C-8B1BF75ED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DEA89-B596-44DD-8065-E4F34D89E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30E0-2655-4A4F-91AA-32364FF2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CD3FB2-1339-4F97-8DCF-A9A8CAE99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A4240-83CA-458B-9087-5904DCDD4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938E9-CABC-441F-B860-D6A52589BB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9A7F5-68B7-4803-A89B-61DA64B72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775A4-993B-491F-9222-802E74BF1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A013C-441D-46B5-8797-DC78FC407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26C32A-EB8F-43A9-961C-8C9910966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367EF-CCED-46A2-BEB9-6FAA1C2B9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5D01F-348B-4E61-9D12-96A3D71D6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9E95F-BB55-4453-9006-6A3CB284E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C3D98-BD76-4AD7-8D57-209DDA79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E84D2-14EA-4661-9EB3-A5F0567D4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38844-B699-447F-80AD-659892D25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373CF7-8ABA-4E7D-A89B-787B1FBEA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03C942-1C23-4C29-B23C-DBC575A875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2CDBB-45FB-41E4-A9EB-B588BE005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F15B17-4B2B-4A71-91A3-FF695DB7C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52D80-E1AF-4CF0-94D9-360CFC778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819AE-3263-47E0-802A-3FA954014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6E86F-5C66-4B02-A7DC-0B1FC0CE5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C6C1C-D9D4-44BB-90FF-7C6FE40AD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A9AD-2757-4866-8511-588A69477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339A9-F17A-4ADA-ADCF-4EFA1644D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334A4-35D5-49BB-B045-3AECE5511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91DDB-8DD2-4446-82F4-7BACE65A8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197F04-BBA4-40BB-9176-5B41B03436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BC30C4-C44C-4D26-8E4C-2EC62BC65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873479-B5C0-4E54-B2BF-B58CC4D51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3942BE-D19D-482E-B0F8-86F412ABC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2811F9-750B-42E0-BBAE-90CEB05B4E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6BEC3-59F5-4277-9108-B91AF0050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902BB-D525-4F65-B4BA-A42EFBC4F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3386-6C4D-466C-9825-85901C2F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5F83B-EC90-4C62-B772-BCE344C51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4AE9B-A0DE-4CB4-91CA-4F8961E30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2A5A8-8F18-487D-BD84-F42809C3A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42BBD-E9DC-4A4D-9D55-44E8567F7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E9EA1-77BB-4A08-B0A8-FD923DD4E2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946E1B-AE3C-4EB1-ACD2-B295018EEF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91E47-08E1-442A-B688-BB424C7A6D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707EC-FC7A-495F-A11A-DD43C1E065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242FE-5A4B-44B8-8659-94CDC640FE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485399-996B-4C9B-A87F-550F10907F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764ED-0B1F-4777-83C3-651EEB4B83B0}"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A7981-C814-45E9-910E-9E02DF357A5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36B76-5F48-46B6-99BD-64B04350735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FAB47-09B2-4951-A1A2-3B85CCD9B21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88F2C-3112-4810-8A81-A1F46170D02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CBAD8-7A7F-4073-9189-7DBBCCA9FD1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2753B-D548-46C7-9683-B341BA47535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B7213-AFE6-4557-B79A-B989092C49D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BA082-7DFF-4112-8F38-673E81784C9C}"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CD7F6-1694-4ED6-A3D6-C837669C05E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78AFA-89CC-472F-AEEE-48CB92FB28B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0577B-A927-4AA0-88FF-40115DD0DD8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1E0A4-4844-4EE5-BE03-47DEF9256A1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A2C16-587D-40BF-95FC-AD0C0DACC9A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581B7-6D6E-498C-A939-4A5A092EB20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EE144-7138-4C0B-B43B-1DF3895BA2F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99953-41E6-44FC-8D82-BFFFC5D72A83}"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FBBC7-D633-450D-8A70-BC732EAAF68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A995A-301D-413A-97C9-B7F3DA44BE5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F937E-317E-4B1C-BB3B-7951563F0DA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CE462-7591-4AFE-B04B-C68795FD2A80}"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02880-0696-4D85-A31F-B97BE627231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77C2B-E590-4A2B-AB0E-78E94EE57DE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5686F-8255-4A89-BFC8-1B663716B35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E6E10-61E5-4EC6-BAFA-764818943ED5}"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6BF0C-BB2F-4C23-8044-EB09ED42A65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10E8F-98E7-4933-97A9-79279E10EF63}"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F6238-E086-4332-9211-C64D33C0798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A5301-613B-463F-8728-FC5EDA9A5EA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0DE8C-A5AA-4189-9E4D-52C1C80C905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96FC2-CB84-4CA3-8B0A-660CAB53AC2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23FDD-865C-423C-A3A1-680A6C1771A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DB59B-0633-4338-9308-326AEA0A20F7}"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FEE7D-912D-4FF7-8BA9-72B7608417B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5600" y="3244680"/>
            <a:ext cx="67626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Parental involvement and student success in reading. </a:t>
            </a:r>
            <a:br>
              <a:rPr sz="3600"/>
            </a:br>
            <a:endParaRPr b="0" lang="en-US" sz="4800" spc="-1" strike="noStrike">
              <a:solidFill>
                <a:srgbClr val="ffffff"/>
              </a:solidFill>
              <a:latin typeface="Trebuchet MS"/>
            </a:endParaRPr>
          </a:p>
        </p:txBody>
      </p:sp>
      <p:sp>
        <p:nvSpPr>
          <p:cNvPr id="735" name="PlaceHolder 2"/>
          <p:cNvSpPr>
            <a:spLocks noGrp="1"/>
          </p:cNvSpPr>
          <p:nvPr>
            <p:ph type="subTitle"/>
          </p:nvPr>
        </p:nvSpPr>
        <p:spPr>
          <a:xfrm>
            <a:off x="1599840" y="4587840"/>
            <a:ext cx="67626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rquita Bailey</a:t>
            </a:r>
            <a:endParaRPr b="0" lang="en-US" sz="24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d. 7201T Fall 2011</a:t>
            </a:r>
            <a:endParaRPr b="0" lang="en-US" sz="2400" spc="-1" strike="noStrike">
              <a:solidFill>
                <a:srgbClr val="ffffff"/>
              </a:solidFill>
              <a:latin typeface="Trebuchet MS"/>
            </a:endParaRPr>
          </a:p>
        </p:txBody>
      </p:sp>
      <p:pic>
        <p:nvPicPr>
          <p:cNvPr id="736" name="Picture 5" descr="parent child reading.png"/>
          <p:cNvPicPr/>
          <p:nvPr/>
        </p:nvPicPr>
        <p:blipFill>
          <a:blip r:embed="rId1"/>
          <a:stretch/>
        </p:blipFill>
        <p:spPr>
          <a:xfrm>
            <a:off x="246240" y="312840"/>
            <a:ext cx="215244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References</a:t>
            </a:r>
            <a:endParaRPr b="0" lang="en-US" sz="3800" spc="-1" strike="noStrike">
              <a:solidFill>
                <a:srgbClr val="ffffff"/>
              </a:solidFill>
              <a:latin typeface="Trebuchet MS"/>
            </a:endParaRPr>
          </a:p>
        </p:txBody>
      </p:sp>
      <p:sp>
        <p:nvSpPr>
          <p:cNvPr id="760" name=""/>
          <p:cNvSpPr txBox="1"/>
          <p:nvPr/>
        </p:nvSpPr>
        <p:spPr>
          <a:xfrm>
            <a:off x="779040" y="1147680"/>
            <a:ext cx="7583400" cy="5437440"/>
          </a:xfrm>
          <a:prstGeom prst="rect">
            <a:avLst/>
          </a:prstGeom>
          <a:noFill/>
          <a:ln w="0">
            <a:noFill/>
          </a:ln>
        </p:spPr>
        <p:txBody>
          <a:bodyPr anchor="t">
            <a:normAutofit/>
          </a:bodyPr>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Campbell, J.R., &amp; Verna, M. (2007). Effective parental influence: academic home climate lined to children’s </a:t>
            </a:r>
            <a:r>
              <a:rPr b="0" lang="en-US" sz="1000" spc="-1" strike="noStrike">
                <a:solidFill>
                  <a:srgbClr val="ffffff"/>
                </a:solidFill>
                <a:latin typeface="Trebuchet MS"/>
              </a:rPr>
              <a:t>	</a:t>
            </a:r>
            <a:r>
              <a:rPr b="0" lang="en-US" sz="1000" spc="-1" strike="noStrike">
                <a:solidFill>
                  <a:srgbClr val="ffffff"/>
                </a:solidFill>
                <a:latin typeface="Trebuchet MS"/>
              </a:rPr>
              <a:t>achievement</a:t>
            </a:r>
            <a:r>
              <a:rPr b="0" i="1" lang="en-US" sz="1000" spc="-1" strike="noStrike">
                <a:solidFill>
                  <a:srgbClr val="ffffff"/>
                </a:solidFill>
                <a:latin typeface="Trebuchet MS"/>
              </a:rPr>
              <a:t>. Educational Research and Evaluation</a:t>
            </a:r>
            <a:r>
              <a:rPr b="0" lang="en-US" sz="1000" spc="-1" strike="noStrike">
                <a:solidFill>
                  <a:srgbClr val="ffffff"/>
                </a:solidFill>
                <a:latin typeface="Trebuchet MS"/>
              </a:rPr>
              <a:t>,  </a:t>
            </a:r>
            <a:r>
              <a:rPr b="0" i="1" lang="en-US" sz="1000" spc="-1" strike="noStrike">
                <a:solidFill>
                  <a:srgbClr val="ffffff"/>
                </a:solidFill>
                <a:latin typeface="Trebuchet MS"/>
              </a:rPr>
              <a:t>13</a:t>
            </a:r>
            <a:r>
              <a:rPr b="0" lang="en-US" sz="1000" spc="-1" strike="noStrike">
                <a:solidFill>
                  <a:srgbClr val="ffffff"/>
                </a:solidFill>
                <a:latin typeface="Trebuchet MS"/>
              </a:rPr>
              <a:t>(6), 501-51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Cottrell, S., &amp; Shaughnessy, M. (2005). An interview with Joyce Epstein: about parental involvement.  Retrieved from  </a:t>
            </a:r>
            <a:r>
              <a:rPr b="0" lang="en-US" sz="1000" spc="-1" strike="noStrike">
                <a:solidFill>
                  <a:srgbClr val="ffffff"/>
                </a:solidFill>
                <a:latin typeface="Trebuchet MS"/>
              </a:rPr>
              <a:t>	</a:t>
            </a:r>
            <a:r>
              <a:rPr b="0" lang="en-US" sz="1000" spc="-1" strike="noStrike">
                <a:solidFill>
                  <a:srgbClr val="ffffff"/>
                </a:solidFill>
                <a:latin typeface="Trebuchet MS"/>
              </a:rPr>
              <a:t>http://www.educationnes.org/articles/an-interview-with-joyce-epstein-about-parental-involvement-.html </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Ediger, M. (2008). Psychology of parental involvement in reading. </a:t>
            </a:r>
            <a:r>
              <a:rPr b="0" i="1" lang="en-US" sz="1000" spc="-1" strike="noStrike">
                <a:solidFill>
                  <a:srgbClr val="ffffff"/>
                </a:solidFill>
                <a:latin typeface="Trebuchet MS"/>
              </a:rPr>
              <a:t>Reading </a:t>
            </a:r>
            <a:endParaRPr b="0" lang="en-US" sz="10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rebuchet MS"/>
              </a:rPr>
              <a:t>	</a:t>
            </a:r>
            <a:r>
              <a:rPr b="0" i="1" lang="en-US" sz="1000" spc="-1" strike="noStrike">
                <a:solidFill>
                  <a:srgbClr val="ffffff"/>
                </a:solidFill>
                <a:latin typeface="Trebuchet MS"/>
              </a:rPr>
              <a:t>Improvement</a:t>
            </a:r>
            <a:r>
              <a:rPr b="0" lang="en-US" sz="1000" spc="-1" strike="noStrike">
                <a:solidFill>
                  <a:srgbClr val="ffffff"/>
                </a:solidFill>
                <a:latin typeface="Trebuchet MS"/>
              </a:rPr>
              <a:t>, </a:t>
            </a:r>
            <a:r>
              <a:rPr b="0" i="1" lang="en-US" sz="1000" spc="-1" strike="noStrike">
                <a:solidFill>
                  <a:srgbClr val="ffffff"/>
                </a:solidFill>
                <a:latin typeface="Trebuchet MS"/>
              </a:rPr>
              <a:t>45</a:t>
            </a:r>
            <a:r>
              <a:rPr b="0" lang="en-US" sz="1000" spc="-1" strike="noStrike">
                <a:solidFill>
                  <a:srgbClr val="ffffff"/>
                </a:solidFill>
                <a:latin typeface="Trebuchet MS"/>
              </a:rPr>
              <a:t>(1), 46-52.</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awes, C., &amp; Plourde, L. (2005). Parental involvement and its influences in the reading </a:t>
            </a:r>
            <a:endParaRPr b="0" lang="en-US" sz="10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achievement of 6th grade students. </a:t>
            </a:r>
            <a:r>
              <a:rPr b="0" i="1" lang="en-US" sz="1000" spc="-1" strike="noStrike">
                <a:solidFill>
                  <a:srgbClr val="ffffff"/>
                </a:solidFill>
                <a:latin typeface="Trebuchet MS"/>
              </a:rPr>
              <a:t>Reading Improvement</a:t>
            </a:r>
            <a:r>
              <a:rPr b="0" lang="en-US" sz="1000" spc="-1" strike="noStrike">
                <a:solidFill>
                  <a:srgbClr val="ffffff"/>
                </a:solidFill>
                <a:latin typeface="Trebuchet MS"/>
              </a:rPr>
              <a:t>, </a:t>
            </a:r>
            <a:r>
              <a:rPr b="0" i="1" lang="en-US" sz="1000" spc="-1" strike="noStrike">
                <a:solidFill>
                  <a:srgbClr val="ffffff"/>
                </a:solidFill>
                <a:latin typeface="Trebuchet MS"/>
              </a:rPr>
              <a:t>42</a:t>
            </a:r>
            <a:r>
              <a:rPr b="0" lang="en-US" sz="1000" spc="-1" strike="noStrike">
                <a:solidFill>
                  <a:srgbClr val="ffffff"/>
                </a:solidFill>
                <a:latin typeface="Trebuchet MS"/>
              </a:rPr>
              <a:t>(1), 47-57.</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oover-Dempsey, K., Walker J., Jones, K., Reed, R. (2002). Teachers involving parents (TIP): results of an in-service </a:t>
            </a:r>
            <a:r>
              <a:rPr b="0" lang="en-US" sz="1000" spc="-1" strike="noStrike">
                <a:solidFill>
                  <a:srgbClr val="ffffff"/>
                </a:solidFill>
                <a:latin typeface="Trebuchet MS"/>
              </a:rPr>
              <a:t>	</a:t>
            </a:r>
            <a:r>
              <a:rPr b="0" lang="en-US" sz="1000" spc="-1" strike="noStrike">
                <a:solidFill>
                  <a:srgbClr val="ffffff"/>
                </a:solidFill>
                <a:latin typeface="Trebuchet MS"/>
              </a:rPr>
              <a:t>teacher education program for enhancing parental involvement. </a:t>
            </a:r>
            <a:r>
              <a:rPr b="0" i="1" lang="en-US" sz="1000" spc="-1" strike="noStrike">
                <a:solidFill>
                  <a:srgbClr val="ffffff"/>
                </a:solidFill>
                <a:latin typeface="Trebuchet MS"/>
              </a:rPr>
              <a:t>Teaching and Teacher Education</a:t>
            </a:r>
            <a:r>
              <a:rPr b="0" lang="en-US" sz="1000" spc="-1" strike="noStrike">
                <a:solidFill>
                  <a:srgbClr val="ffffff"/>
                </a:solidFill>
                <a:latin typeface="Trebuchet MS"/>
              </a:rPr>
              <a:t>, </a:t>
            </a:r>
            <a:r>
              <a:rPr b="0" i="1" lang="en-US" sz="1000" spc="-1" strike="noStrike">
                <a:solidFill>
                  <a:srgbClr val="ffffff"/>
                </a:solidFill>
                <a:latin typeface="Trebuchet MS"/>
              </a:rPr>
              <a:t>18</a:t>
            </a:r>
            <a:r>
              <a:rPr b="0" lang="en-US" sz="1000" spc="-1" strike="noStrike">
                <a:solidFill>
                  <a:srgbClr val="ffffff"/>
                </a:solidFill>
                <a:latin typeface="Trebuchet MS"/>
              </a:rPr>
              <a:t>(2002) 843-</a:t>
            </a:r>
            <a:r>
              <a:rPr b="0" lang="en-US" sz="1000" spc="-1" strike="noStrike">
                <a:solidFill>
                  <a:srgbClr val="ffffff"/>
                </a:solidFill>
                <a:latin typeface="Trebuchet MS"/>
              </a:rPr>
              <a:t>	</a:t>
            </a:r>
            <a:r>
              <a:rPr b="0" lang="en-US" sz="1000" spc="-1" strike="noStrike">
                <a:solidFill>
                  <a:srgbClr val="ffffff"/>
                </a:solidFill>
                <a:latin typeface="Trebuchet MS"/>
              </a:rPr>
              <a:t>867.</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oover-Dempsey, K.V., Battiato, A.C., Walker, J.T., Reed, R.P., Delong, J.M., &amp; Jones, K.P. (2001). Parental involvement </a:t>
            </a:r>
            <a:r>
              <a:rPr b="0" lang="en-US" sz="1000" spc="-1" strike="noStrike">
                <a:solidFill>
                  <a:srgbClr val="ffffff"/>
                </a:solidFill>
                <a:latin typeface="Trebuchet MS"/>
              </a:rPr>
              <a:t>	</a:t>
            </a:r>
            <a:r>
              <a:rPr b="0" lang="en-US" sz="1000" spc="-1" strike="noStrike">
                <a:solidFill>
                  <a:srgbClr val="ffffff"/>
                </a:solidFill>
                <a:latin typeface="Trebuchet MS"/>
              </a:rPr>
              <a:t>in homework</a:t>
            </a:r>
            <a:r>
              <a:rPr b="0" i="1" lang="en-US" sz="1000" spc="-1" strike="noStrike">
                <a:solidFill>
                  <a:srgbClr val="ffffff"/>
                </a:solidFill>
                <a:latin typeface="Trebuchet MS"/>
              </a:rPr>
              <a:t>. Educational Psychologist</a:t>
            </a:r>
            <a:r>
              <a:rPr b="0" lang="en-US" sz="1000" spc="-1" strike="noStrike">
                <a:solidFill>
                  <a:srgbClr val="ffffff"/>
                </a:solidFill>
                <a:latin typeface="Trebuchet MS"/>
              </a:rPr>
              <a:t>, </a:t>
            </a:r>
            <a:r>
              <a:rPr b="0" i="1" lang="en-US" sz="1000" spc="-1" strike="noStrike">
                <a:solidFill>
                  <a:srgbClr val="ffffff"/>
                </a:solidFill>
                <a:latin typeface="Trebuchet MS"/>
              </a:rPr>
              <a:t>36</a:t>
            </a:r>
            <a:r>
              <a:rPr b="0" lang="en-US" sz="1000" spc="-1" strike="noStrike">
                <a:solidFill>
                  <a:srgbClr val="ffffff"/>
                </a:solidFill>
                <a:latin typeface="Trebuchet MS"/>
              </a:rPr>
              <a:t>(3), 195-20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Mccollough, C., &amp; Ramirez, O. (2010). Connecting math and science to home, school and community through preservice </a:t>
            </a:r>
            <a:r>
              <a:rPr b="0" lang="en-US" sz="1000" spc="-1" strike="noStrike">
                <a:solidFill>
                  <a:srgbClr val="ffffff"/>
                </a:solidFill>
                <a:latin typeface="Trebuchet MS"/>
              </a:rPr>
              <a:t>	</a:t>
            </a:r>
            <a:r>
              <a:rPr b="0" lang="en-US" sz="1000" spc="-1" strike="noStrike">
                <a:solidFill>
                  <a:srgbClr val="ffffff"/>
                </a:solidFill>
                <a:latin typeface="Trebuchet MS"/>
              </a:rPr>
              <a:t>teacher education. </a:t>
            </a:r>
            <a:r>
              <a:rPr b="0" i="1" lang="en-US" sz="1000" spc="-1" strike="noStrike">
                <a:solidFill>
                  <a:srgbClr val="ffffff"/>
                </a:solidFill>
                <a:latin typeface="Trebuchet MS"/>
              </a:rPr>
              <a:t>Academic Leadership</a:t>
            </a:r>
            <a:r>
              <a:rPr b="0" lang="en-US" sz="1000" spc="-1" strike="noStrike">
                <a:solidFill>
                  <a:srgbClr val="ffffff"/>
                </a:solidFill>
                <a:latin typeface="Trebuchet MS"/>
              </a:rPr>
              <a:t>, </a:t>
            </a:r>
            <a:r>
              <a:rPr b="0" i="1" lang="en-US" sz="1000" spc="-1" strike="noStrike">
                <a:solidFill>
                  <a:srgbClr val="ffffff"/>
                </a:solidFill>
                <a:latin typeface="Trebuchet MS"/>
              </a:rPr>
              <a:t>8</a:t>
            </a:r>
            <a:r>
              <a:rPr b="0" lang="en-US" sz="1000" spc="-1" strike="noStrike">
                <a:solidFill>
                  <a:srgbClr val="ffffff"/>
                </a:solidFill>
                <a:latin typeface="Trebuchet MS"/>
              </a:rPr>
              <a:t>(2), 1-11.</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Padak, N., &amp; Rasinski, T. (2006).  Home-school partnerships in literacy education: from rhetoric to reality. </a:t>
            </a:r>
            <a:r>
              <a:rPr b="0" i="1" lang="en-US" sz="1000" spc="-1" strike="noStrike">
                <a:solidFill>
                  <a:srgbClr val="ffffff"/>
                </a:solidFill>
                <a:latin typeface="Trebuchet MS"/>
              </a:rPr>
              <a:t>Reading </a:t>
            </a:r>
            <a:r>
              <a:rPr b="0" i="1" lang="en-US" sz="1000" spc="-1" strike="noStrike">
                <a:solidFill>
                  <a:srgbClr val="ffffff"/>
                </a:solidFill>
                <a:latin typeface="Trebuchet MS"/>
              </a:rPr>
              <a:t>	</a:t>
            </a:r>
            <a:r>
              <a:rPr b="0" i="1" lang="en-US" sz="1000" spc="-1" strike="noStrike">
                <a:solidFill>
                  <a:srgbClr val="ffffff"/>
                </a:solidFill>
                <a:latin typeface="Trebuchet MS"/>
              </a:rPr>
              <a:t>Teacher</a:t>
            </a:r>
            <a:r>
              <a:rPr b="0" lang="en-US" sz="1000" spc="-1" strike="noStrike">
                <a:solidFill>
                  <a:srgbClr val="ffffff"/>
                </a:solidFill>
                <a:latin typeface="Trebuchet MS"/>
              </a:rPr>
              <a:t>, </a:t>
            </a:r>
            <a:r>
              <a:rPr b="0" i="1" lang="en-US" sz="1000" spc="-1" strike="noStrike">
                <a:solidFill>
                  <a:srgbClr val="ffffff"/>
                </a:solidFill>
                <a:latin typeface="Trebuchet MS"/>
              </a:rPr>
              <a:t>60</a:t>
            </a:r>
            <a:r>
              <a:rPr b="0" lang="en-US" sz="1000" spc="-1" strike="noStrike">
                <a:solidFill>
                  <a:srgbClr val="ffffff"/>
                </a:solidFill>
                <a:latin typeface="Trebuchet MS"/>
              </a:rPr>
              <a:t>(3), 292-296.</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Senechal, M., &amp; Lefebvre, J. (2002). Parental involvement in the development of children’s reading skill: A five-year </a:t>
            </a:r>
            <a:r>
              <a:rPr b="0" lang="en-US" sz="1000" spc="-1" strike="noStrike">
                <a:solidFill>
                  <a:srgbClr val="ffffff"/>
                </a:solidFill>
                <a:latin typeface="Trebuchet MS"/>
              </a:rPr>
              <a:t>	</a:t>
            </a:r>
            <a:r>
              <a:rPr b="0" lang="en-US" sz="1000" spc="-1" strike="noStrike">
                <a:solidFill>
                  <a:srgbClr val="ffffff"/>
                </a:solidFill>
                <a:latin typeface="Trebuchet MS"/>
              </a:rPr>
              <a:t>longitudinal study. </a:t>
            </a:r>
            <a:r>
              <a:rPr b="0" i="1" lang="en-US" sz="1000" spc="-1" strike="noStrike">
                <a:solidFill>
                  <a:srgbClr val="ffffff"/>
                </a:solidFill>
                <a:latin typeface="Trebuchet MS"/>
              </a:rPr>
              <a:t>Child Development</a:t>
            </a:r>
            <a:r>
              <a:rPr b="0" lang="en-US" sz="1000" spc="-1" strike="noStrike">
                <a:solidFill>
                  <a:srgbClr val="ffffff"/>
                </a:solidFill>
                <a:latin typeface="Trebuchet MS"/>
              </a:rPr>
              <a:t>, </a:t>
            </a:r>
            <a:r>
              <a:rPr b="0" i="1" lang="en-US" sz="1000" spc="-1" strike="noStrike">
                <a:solidFill>
                  <a:srgbClr val="ffffff"/>
                </a:solidFill>
                <a:latin typeface="Trebuchet MS"/>
              </a:rPr>
              <a:t>73</a:t>
            </a:r>
            <a:r>
              <a:rPr b="0" lang="en-US" sz="1000" spc="-1" strike="noStrike">
                <a:solidFill>
                  <a:srgbClr val="ffffff"/>
                </a:solidFill>
                <a:latin typeface="Trebuchet MS"/>
              </a:rPr>
              <a:t>(2), 445-461.</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Walberg, H. &amp; Paik, S.J. (1997). Home environments for learning. </a:t>
            </a:r>
            <a:r>
              <a:rPr b="0" i="1" lang="en-US" sz="1000" spc="-1" strike="noStrike">
                <a:solidFill>
                  <a:srgbClr val="ffffff"/>
                </a:solidFill>
                <a:latin typeface="Trebuchet MS"/>
              </a:rPr>
              <a:t>Psychology and educational practice</a:t>
            </a:r>
            <a:r>
              <a:rPr b="0" lang="en-US" sz="1000" spc="-1" strike="noStrike">
                <a:solidFill>
                  <a:srgbClr val="ffffff"/>
                </a:solidFill>
                <a:latin typeface="Trebuchet MS"/>
              </a:rPr>
              <a:t>, 356-368.</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Xu, M., Kushner Benson,S., Mudrey-Camino, R., &amp; Steiner, R. (2010). The relationship between parental involvement, </a:t>
            </a:r>
            <a:r>
              <a:rPr b="0" lang="en-US" sz="1000" spc="-1" strike="noStrike">
                <a:solidFill>
                  <a:srgbClr val="ffffff"/>
                </a:solidFill>
                <a:latin typeface="Trebuchet MS"/>
              </a:rPr>
              <a:t>	</a:t>
            </a:r>
            <a:r>
              <a:rPr b="0" lang="en-US" sz="1000" spc="-1" strike="noStrike">
                <a:solidFill>
                  <a:srgbClr val="ffffff"/>
                </a:solidFill>
                <a:latin typeface="Trebuchet MS"/>
              </a:rPr>
              <a:t>self-regulated learning, and reading achievement of fifth graders: a path analysis using the ECLS-K </a:t>
            </a:r>
            <a:r>
              <a:rPr b="0" lang="en-US" sz="1000" spc="-1" strike="noStrike">
                <a:solidFill>
                  <a:srgbClr val="ffffff"/>
                </a:solidFill>
                <a:latin typeface="Trebuchet MS"/>
              </a:rPr>
              <a:t>	</a:t>
            </a:r>
            <a:r>
              <a:rPr b="0" lang="en-US" sz="1000" spc="-1" strike="noStrike">
                <a:solidFill>
                  <a:srgbClr val="ffffff"/>
                </a:solidFill>
                <a:latin typeface="Trebuchet MS"/>
              </a:rPr>
              <a:t>database. </a:t>
            </a:r>
            <a:r>
              <a:rPr b="0" i="1" lang="en-US" sz="1000" spc="-1" strike="noStrike">
                <a:solidFill>
                  <a:srgbClr val="ffffff"/>
                </a:solidFill>
                <a:latin typeface="Trebuchet MS"/>
              </a:rPr>
              <a:t>Social Psychology of Education</a:t>
            </a:r>
            <a:r>
              <a:rPr b="0" lang="en-US" sz="1000" spc="-1" strike="noStrike">
                <a:solidFill>
                  <a:srgbClr val="ffffff"/>
                </a:solidFill>
                <a:latin typeface="Trebuchet MS"/>
              </a:rPr>
              <a:t>, </a:t>
            </a:r>
            <a:r>
              <a:rPr b="0" i="1" lang="en-US" sz="1000" spc="-1" strike="noStrike">
                <a:solidFill>
                  <a:srgbClr val="ffffff"/>
                </a:solidFill>
                <a:latin typeface="Trebuchet MS"/>
              </a:rPr>
              <a:t>13</a:t>
            </a:r>
            <a:r>
              <a:rPr b="0" lang="en-US" sz="1000" spc="-1" strike="noStrike">
                <a:solidFill>
                  <a:srgbClr val="ffffff"/>
                </a:solidFill>
                <a:latin typeface="Trebuchet MS"/>
              </a:rPr>
              <a:t>(2), 237-26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rebuchet MS"/>
              </a:rPr>
              <a:t>Table of Contents</a:t>
            </a:r>
            <a:endParaRPr b="0" lang="en-US" sz="6600" spc="-1" strike="noStrike">
              <a:solidFill>
                <a:srgbClr val="ffffff"/>
              </a:solidFill>
              <a:latin typeface="Trebuchet MS"/>
            </a:endParaRPr>
          </a:p>
        </p:txBody>
      </p:sp>
      <p:sp>
        <p:nvSpPr>
          <p:cNvPr id="73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troduction</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tatement of the problem</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view of literature</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tatement of the Hypothesis</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a:t>
            </a:r>
            <a:r>
              <a:rPr b="0" lang="en-US" sz="3600" spc="-1" strike="noStrike">
                <a:solidFill>
                  <a:srgbClr val="ffffff"/>
                </a:solidFill>
                <a:latin typeface="Trebuchet MS"/>
              </a:rPr>
              <a:t>	</a:t>
            </a:r>
            <a:r>
              <a:rPr b="0" lang="en-US" sz="3600" spc="-1" strike="noStrike">
                <a:solidFill>
                  <a:srgbClr val="ffffff"/>
                </a:solidFill>
                <a:latin typeface="Trebuchet MS"/>
              </a:rPr>
              <a:t>	</a:t>
            </a:r>
            <a:r>
              <a:rPr b="0" lang="en-US" sz="3600" spc="-1" strike="noStrike">
                <a:solidFill>
                  <a:srgbClr val="ffffff"/>
                </a:solidFill>
                <a:latin typeface="Trebuchet MS"/>
              </a:rPr>
              <a:t>	</a:t>
            </a:r>
            <a:r>
              <a:rPr b="0" lang="en-US" sz="3600" spc="-1" strike="noStrike">
                <a:solidFill>
                  <a:srgbClr val="ffffff"/>
                </a:solidFill>
                <a:latin typeface="Trebuchet MS"/>
              </a:rPr>
              <a:t>	</a:t>
            </a:r>
            <a:endParaRPr b="0" lang="en-US" sz="3600" spc="-1" strike="noStrike">
              <a:solidFill>
                <a:srgbClr val="ffffff"/>
              </a:solidFill>
              <a:latin typeface="Trebuchet MS"/>
            </a:endParaRPr>
          </a:p>
        </p:txBody>
      </p:sp>
      <p:sp>
        <p:nvSpPr>
          <p:cNvPr id="739" name="AutoShape 5"/>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0" name="AutoShape 7"/>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rebuchet MS"/>
              </a:rPr>
              <a:t>Introduction</a:t>
            </a:r>
            <a:endParaRPr b="0" lang="en-US" sz="6600" spc="-1" strike="noStrike">
              <a:solidFill>
                <a:srgbClr val="ffffff"/>
              </a:solidFill>
              <a:latin typeface="Trebuchet MS"/>
            </a:endParaRPr>
          </a:p>
        </p:txBody>
      </p:sp>
      <p:pic>
        <p:nvPicPr>
          <p:cNvPr id="742" name="Content Placeholder 2" descr=""/>
          <p:cNvPicPr/>
          <p:nvPr/>
        </p:nvPicPr>
        <p:blipFill>
          <a:blip r:embed="rId1"/>
          <a:stretch/>
        </p:blipFill>
        <p:spPr>
          <a:xfrm>
            <a:off x="341280" y="1285920"/>
            <a:ext cx="8558280" cy="4749840"/>
          </a:xfrm>
          <a:prstGeom prst="rect">
            <a:avLst/>
          </a:prstGeom>
          <a:ln w="0">
            <a:noFill/>
          </a:ln>
        </p:spPr>
      </p:pic>
      <p:pic>
        <p:nvPicPr>
          <p:cNvPr id="743" name="Picture 6" descr="jlnn174l.jpg"/>
          <p:cNvPicPr/>
          <p:nvPr/>
        </p:nvPicPr>
        <p:blipFill>
          <a:blip r:embed="rId2"/>
          <a:stretch/>
        </p:blipFill>
        <p:spPr>
          <a:xfrm>
            <a:off x="339840" y="1425600"/>
            <a:ext cx="3338280" cy="447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Trebuchet MS"/>
              </a:rPr>
              <a:t>Statement of the problem</a:t>
            </a:r>
            <a:endParaRPr b="0" lang="en-US" sz="4900" spc="-1" strike="noStrike">
              <a:solidFill>
                <a:srgbClr val="ffffff"/>
              </a:solidFill>
              <a:latin typeface="Trebuchet MS"/>
            </a:endParaRPr>
          </a:p>
        </p:txBody>
      </p:sp>
      <p:sp>
        <p:nvSpPr>
          <p:cNvPr id="745" name=""/>
          <p:cNvSpPr txBox="1"/>
          <p:nvPr/>
        </p:nvSpPr>
        <p:spPr>
          <a:xfrm>
            <a:off x="779040" y="1425600"/>
            <a:ext cx="7583400" cy="4929120"/>
          </a:xfrm>
          <a:prstGeom prst="rect">
            <a:avLst/>
          </a:prstGeom>
          <a:noFill/>
          <a:ln w="0">
            <a:noFill/>
          </a:ln>
        </p:spPr>
        <p:txBody>
          <a:bodyPr anchor="t">
            <a:normAutofit fontScale="99000"/>
          </a:bodyPr>
          <a:p>
            <a:pPr marL="279720" indent="-279720" algn="just">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ording to Senechal and LeFevre (2002) some early reading skills are acquired at home through specific experiences.  The Education of a child does begin in school and it does not end when the school bell rings.  Instead it is an ongoing process that requires support from all parties involved.  Teachers are responsible for what goes on during the school day, however, once students go home, it is up to parents to continue educating their children.  Many students lack the parental involvement that they need in order to succeed for a number of reasons.  With more help and support from parents, students are capable of doing better in school. </a:t>
            </a:r>
            <a:endParaRPr b="0" lang="en-US" sz="2200" spc="-1" strike="noStrike">
              <a:solidFill>
                <a:srgbClr val="ffffff"/>
              </a:solidFill>
              <a:latin typeface="Trebuchet MS"/>
            </a:endParaRPr>
          </a:p>
          <a:p>
            <a:pPr marL="279720" indent="-279720" algn="just">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urpose of this study is to determine if there is a correlation between parental involvement via reading and homework help and reading skills of first grade students as measured by mCLASS Literacy assessment.</a:t>
            </a:r>
            <a:endParaRPr b="0" lang="en-US" sz="2200" spc="-1" strike="noStrike">
              <a:solidFill>
                <a:srgbClr val="ffffff"/>
              </a:solidFill>
              <a:latin typeface="Trebuchet MS"/>
            </a:endParaRPr>
          </a:p>
          <a:p>
            <a:pPr marL="279720" indent="-27972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68000" y="380880"/>
            <a:ext cx="818676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tatement of the problem (cont’d)</a:t>
            </a:r>
            <a:endParaRPr b="0" lang="en-US" sz="4000" spc="-1" strike="noStrike">
              <a:solidFill>
                <a:srgbClr val="ffffff"/>
              </a:solidFill>
              <a:latin typeface="Trebuchet MS"/>
            </a:endParaRPr>
          </a:p>
        </p:txBody>
      </p:sp>
      <p:sp>
        <p:nvSpPr>
          <p:cNvPr id="747" name=""/>
          <p:cNvSpPr txBox="1"/>
          <p:nvPr/>
        </p:nvSpPr>
        <p:spPr>
          <a:xfrm>
            <a:off x="779040" y="1425240"/>
            <a:ext cx="7583400" cy="5127480"/>
          </a:xfrm>
          <a:prstGeom prst="rect">
            <a:avLst/>
          </a:prstGeom>
          <a:noFill/>
          <a:ln w="0">
            <a:noFill/>
          </a:ln>
        </p:spPr>
        <p:txBody>
          <a:bodyPr anchor="t">
            <a:normAutofit fontScale="80000"/>
          </a:bodyPr>
          <a:p>
            <a:pPr marL="226080" indent="-226080" algn="ct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Parental involvement has been associated with stronger academic achievement by children and adolescents, as well as increases in student attributes conducive to academic success, including improved school attendance and behavior, more positive perceptions of classroom and school climate, stronger self-regulatory skills, stronger work orientation, and higher educational aspirations”.</a:t>
            </a:r>
            <a:endParaRPr b="0" lang="en-US" sz="2000" spc="-1" strike="noStrike">
              <a:solidFill>
                <a:srgbClr val="ffffff"/>
              </a:solidFill>
              <a:latin typeface="Trebuchet MS"/>
            </a:endParaRPr>
          </a:p>
          <a:p>
            <a:pPr marL="226080" indent="-226080" algn="ct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Parents’ involvement activities influence students outcomes through modeling, reinforcement, and instruction…parents’ involvement activities have been positively related to student achievement and, perhaps even more importantly, to student attributes proximally related to achievement”.</a:t>
            </a: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over-Dempsey et al.) </a:t>
            </a: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Review of literature</a:t>
            </a:r>
            <a:endParaRPr b="0" lang="en-US" sz="6000" spc="-1" strike="noStrike">
              <a:solidFill>
                <a:srgbClr val="ffffff"/>
              </a:solidFill>
              <a:latin typeface="Trebuchet MS"/>
            </a:endParaRPr>
          </a:p>
        </p:txBody>
      </p:sp>
      <p:sp>
        <p:nvSpPr>
          <p:cNvPr id="749" name=""/>
          <p:cNvSpPr txBox="1"/>
          <p:nvPr/>
        </p:nvSpPr>
        <p:spPr>
          <a:xfrm>
            <a:off x="779040" y="1425240"/>
            <a:ext cx="7583400" cy="5102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rebuchet MS"/>
              </a:rPr>
              <a:t>Theorists</a:t>
            </a:r>
            <a:r>
              <a:rPr b="0" lang="en-US" sz="3200" spc="-1" strike="noStrike">
                <a:solidFill>
                  <a:srgbClr val="ffffff"/>
                </a:solidFill>
                <a:latin typeface="Trebuchet MS"/>
              </a:rPr>
              <a:t>:</a:t>
            </a:r>
            <a:endParaRPr b="0" lang="en-US" sz="3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Walberg H</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Deliberate, cooperative intervention efforts by parents and educators to modify academic conditions in the home have an outstanding record of success in promoting achieve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J.R Campbell</a:t>
            </a:r>
            <a:endParaRPr b="0" lang="en-US" sz="1800" spc="-1" strike="noStrike">
              <a:solidFill>
                <a:srgbClr val="ffffff"/>
              </a:solidFill>
              <a:latin typeface="Trebuchet MS"/>
            </a:endParaRPr>
          </a:p>
          <a:p>
            <a:pPr lvl="1" marL="577800" indent="-295200" algn="just">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Effective parenting makes important contributions to children’s education and achievement”.</a:t>
            </a:r>
            <a:endParaRPr b="0" lang="en-US" sz="1800" spc="-1" strike="noStrike">
              <a:solidFill>
                <a:srgbClr val="ffffff"/>
              </a:solidFill>
              <a:latin typeface="Trebuchet MS"/>
            </a:endParaRPr>
          </a:p>
          <a:p>
            <a:pPr lvl="1" marL="577800" indent="-295200" algn="just">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A positive academic home climate generates curiosity and encourages the child to pursue their academic interests.  It also generates positive behaviors, attitudes, beliefs, and values that lead to children having higher levels of achievement.  This is especially true when the academic home climate is in sync with the school’s academic climate”.   </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rebuchet MS"/>
              </a:rPr>
              <a:t>Review of literature (con’d)</a:t>
            </a:r>
            <a:endParaRPr b="0" lang="en-US" sz="4600" spc="-1" strike="noStrike">
              <a:solidFill>
                <a:srgbClr val="ffffff"/>
              </a:solidFill>
              <a:latin typeface="Trebuchet MS"/>
            </a:endParaRPr>
          </a:p>
        </p:txBody>
      </p:sp>
      <p:sp>
        <p:nvSpPr>
          <p:cNvPr id="751" name=""/>
          <p:cNvSpPr txBox="1"/>
          <p:nvPr/>
        </p:nvSpPr>
        <p:spPr>
          <a:xfrm>
            <a:off x="779040" y="1425240"/>
            <a:ext cx="7583400" cy="5103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pstein</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Educators are increasingly aware of the importance of involving parents in the education of their children. Research shows that parent involvement improves student achievement. When parents are involved, children do better in school. Parental encouragement and assistance contribute to students' higher achievement, report card grades, better attitudes, and higher aspirations”.</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Active involvement is salient on the part of all involved in developing a community of learners”.</a:t>
            </a:r>
            <a:endParaRPr b="0" lang="en-US" sz="1800" spc="-1" strike="noStrike">
              <a:solidFill>
                <a:srgbClr val="ffffff"/>
              </a:solidFill>
              <a:latin typeface="Trebuchet MS"/>
            </a:endParaRPr>
          </a:p>
          <a:p>
            <a:pPr lvl="1" marL="577800" indent="-295200" algn="ctr">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52" name="Picture 4" descr=""/>
          <p:cNvPicPr/>
          <p:nvPr/>
        </p:nvPicPr>
        <p:blipFill>
          <a:blip r:embed="rId1"/>
          <a:stretch/>
        </p:blipFill>
        <p:spPr>
          <a:xfrm>
            <a:off x="3419640" y="4419720"/>
            <a:ext cx="23047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rebuchet MS"/>
              </a:rPr>
              <a:t>Review of literature (con’d)</a:t>
            </a:r>
            <a:endParaRPr b="0" lang="en-US" sz="4600" spc="-1" strike="noStrike">
              <a:solidFill>
                <a:srgbClr val="ffffff"/>
              </a:solidFill>
              <a:latin typeface="Trebuchet MS"/>
            </a:endParaRPr>
          </a:p>
        </p:txBody>
      </p:sp>
      <p:sp>
        <p:nvSpPr>
          <p:cNvPr id="754" name=""/>
          <p:cNvSpPr txBox="1"/>
          <p:nvPr/>
        </p:nvSpPr>
        <p:spPr>
          <a:xfrm>
            <a:off x="779040" y="1147320"/>
            <a:ext cx="7583400" cy="5405400"/>
          </a:xfrm>
          <a:prstGeom prst="rect">
            <a:avLst/>
          </a:prstGeom>
          <a:noFill/>
          <a:ln w="0">
            <a:noFill/>
          </a:ln>
        </p:spPr>
        <p:txBody>
          <a:bodyPr anchor="t">
            <a:normAutofit fontScale="99000"/>
          </a:bodyPr>
          <a:p>
            <a:pPr marL="279720" indent="-2797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pstein’s framework of six types of involvement</a:t>
            </a:r>
            <a:endParaRPr b="0" lang="en-US" sz="22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Parenting</a:t>
            </a:r>
            <a:r>
              <a:rPr b="0" lang="en-US" sz="2000" spc="-1" strike="noStrike">
                <a:solidFill>
                  <a:srgbClr val="ffffff"/>
                </a:solidFill>
                <a:latin typeface="Trebuchet MS"/>
              </a:rPr>
              <a:t>- helping families establish home environments to support children as student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Communicating</a:t>
            </a:r>
            <a:r>
              <a:rPr b="0" lang="en-US" sz="2000" spc="-1" strike="noStrike">
                <a:solidFill>
                  <a:srgbClr val="ffffff"/>
                </a:solidFill>
                <a:latin typeface="Trebuchet MS"/>
              </a:rPr>
              <a:t>- designing communication between home and school about school programs and children's progres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Volunteering</a:t>
            </a:r>
            <a:r>
              <a:rPr b="0" lang="en-US" sz="2000" spc="-1" strike="noStrike">
                <a:solidFill>
                  <a:srgbClr val="ffffff"/>
                </a:solidFill>
                <a:latin typeface="Trebuchet MS"/>
              </a:rPr>
              <a:t>- recruit parents help and support.</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Learning at home</a:t>
            </a:r>
            <a:r>
              <a:rPr b="0" lang="en-US" sz="2000" spc="-1" strike="noStrike">
                <a:solidFill>
                  <a:srgbClr val="ffffff"/>
                </a:solidFill>
                <a:latin typeface="Trebuchet MS"/>
              </a:rPr>
              <a:t>- providing info. and ideas to families on how to help students at home with homework and other activities, decisions, and planning.</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Decision making- </a:t>
            </a:r>
            <a:r>
              <a:rPr b="0" lang="en-US" sz="2000" spc="-1" strike="noStrike">
                <a:solidFill>
                  <a:srgbClr val="ffffff"/>
                </a:solidFill>
                <a:latin typeface="Trebuchet MS"/>
              </a:rPr>
              <a:t>include parents in school decisions, developing parents leaders and representative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Collaborating with community</a:t>
            </a:r>
            <a:r>
              <a:rPr b="0" lang="en-US" sz="2000" spc="-1" strike="noStrike">
                <a:solidFill>
                  <a:srgbClr val="ffffff"/>
                </a:solidFill>
                <a:latin typeface="Trebuchet MS"/>
              </a:rPr>
              <a:t>-identify and integrate resources and services from the community to strengthen school programs, family practices, and student learning and development.</a:t>
            </a:r>
            <a:endParaRPr b="0" lang="en-US" sz="2000" spc="-1" strike="noStrike">
              <a:solidFill>
                <a:srgbClr val="ffffff"/>
              </a:solidFill>
              <a:latin typeface="Trebuchet MS"/>
            </a:endParaRPr>
          </a:p>
          <a:p>
            <a:pPr marL="279720" indent="-2797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81090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	</a:t>
            </a:r>
            <a:r>
              <a:rPr b="0" lang="en-US" sz="5400" spc="-1" strike="noStrike">
                <a:solidFill>
                  <a:srgbClr val="ffffff"/>
                </a:solidFill>
                <a:latin typeface="Trebuchet MS"/>
              </a:rPr>
              <a:t>   </a:t>
            </a:r>
            <a:r>
              <a:rPr b="0" lang="en-US" sz="5400" spc="-1" strike="noStrike">
                <a:solidFill>
                  <a:srgbClr val="ffffff"/>
                </a:solidFill>
                <a:latin typeface="Trebuchet MS"/>
              </a:rPr>
              <a:t>Research Hypothesis</a:t>
            </a:r>
            <a:endParaRPr b="0" lang="en-US" sz="5400" spc="-1" strike="noStrike">
              <a:solidFill>
                <a:srgbClr val="ffffff"/>
              </a:solidFill>
              <a:latin typeface="Trebuchet MS"/>
            </a:endParaRPr>
          </a:p>
        </p:txBody>
      </p:sp>
      <p:sp>
        <p:nvSpPr>
          <p:cNvPr id="756" name=""/>
          <p:cNvSpPr txBox="1"/>
          <p:nvPr/>
        </p:nvSpPr>
        <p:spPr>
          <a:xfrm>
            <a:off x="2126880" y="1828800"/>
            <a:ext cx="6761160" cy="42084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 </a:t>
            </a:r>
            <a:r>
              <a:rPr b="0" lang="en-US" sz="3600" spc="-1" strike="noStrike">
                <a:solidFill>
                  <a:srgbClr val="ffffff"/>
                </a:solidFill>
                <a:latin typeface="Trebuchet MS"/>
              </a:rPr>
              <a:t>Increased parental involvement via daily reading and homework help over a 4 week period to 20 first grade students in P.S.X of Brooklyn N.Y will increase students’ reading levels.</a:t>
            </a:r>
            <a:endParaRPr b="0" lang="en-US" sz="36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pic>
        <p:nvPicPr>
          <p:cNvPr id="757" name="Picture 5" descr="http://t1.gstatic.com/images?q=tbn:ANd9GcRuX_ZmHB3y9LuYblnq2_I_gYSUFqqaCTJPIFItz05OP7cxYhJy"/>
          <p:cNvPicPr/>
          <p:nvPr/>
        </p:nvPicPr>
        <p:blipFill>
          <a:blip r:embed="rId1"/>
          <a:stretch/>
        </p:blipFill>
        <p:spPr>
          <a:xfrm>
            <a:off x="480960" y="380880"/>
            <a:ext cx="1900440" cy="1447920"/>
          </a:xfrm>
          <a:prstGeom prst="rect">
            <a:avLst/>
          </a:prstGeom>
          <a:ln w="0">
            <a:noFill/>
          </a:ln>
        </p:spPr>
      </p:pic>
      <p:pic>
        <p:nvPicPr>
          <p:cNvPr id="758" name="Picture 7" descr="http://t0.gstatic.com/images?q=tbn:ANd9GcSJx1mh4FAV4MIegIDkiqbr6AReMebtcy5TpdKaKwIeUnCaI2r9CA"/>
          <p:cNvPicPr/>
          <p:nvPr/>
        </p:nvPicPr>
        <p:blipFill>
          <a:blip r:embed="rId2"/>
          <a:stretch/>
        </p:blipFill>
        <p:spPr>
          <a:xfrm>
            <a:off x="480960" y="1828800"/>
            <a:ext cx="1900440" cy="44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5:04:06Z</dcterms:created>
  <dc:creator>NYCDOE</dc:creator>
  <dc:description/>
  <dc:language>en-US</dc:language>
  <cp:lastModifiedBy>Brooklyn College</cp:lastModifiedBy>
  <dcterms:modified xsi:type="dcterms:W3CDTF">2011-10-18T21:07:58Z</dcterms:modified>
  <cp:revision>40</cp:revision>
  <dc:subject/>
  <dc:title>Parental involvement and student success in reading</dc:title>
</cp:coreProperties>
</file>